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CB6-1716-4DAF-B15D-18D433FB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6D1-4705-4591-8FF2-A676EEF337A5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7CBD-71F2-40F7-A354-042E1AE35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8D83-4F63-4709-9A14-291707705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61AC-23DF-4E29-AA52-969B4639A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7FA9-2447-4D43-A09D-554D3EE1C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9361E-B9AA-4FBA-9566-37C921C41E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F737-D480-48CF-B19F-94F32DE0C7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B7376-E72D-4090-B94A-D186B0D2A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CEA02-6087-4CFE-BD96-AC4087A82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6507B-A6AC-493C-87A4-4F1893D9B6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7ECED-19BC-4703-ABEF-2EF6B938F6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FF05-EFF9-45C9-AAFF-5D8506680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389A-1CAF-44FD-9DA1-AA7843E03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EEAA0-19A7-49A8-8F27-0B94C4BF4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2908-B0E8-4696-A77F-FA94B0392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C2928-1016-48BA-9A04-03752BAE13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23EED-6EF1-4E5F-A0A8-4BD8F6A37A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1596D-CAD2-4BC2-AF63-057347B99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E7D2-FC41-46E6-800E-88B730DFC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5A9C-95A0-43C4-9E8C-EB4A4A5A5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F2E0-0E0A-4A46-92CF-3DFA1A8B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D282-0D91-44CC-9788-5C37CC141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B014-397B-4002-9579-8AC620C7E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4838-1B7E-4B55-98E7-3AF9F5A74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E833-B7D0-4543-8C01-68000245E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5D93536-4813-496F-99A0-BA342DA94FF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(#) - </a:t>
            </a:r>
            <a:fld id="{D73F1698-996D-4B20-97D9-16857DADE3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9355DBA-DFD2-43B4-9663-505FA8D67AD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865D2B6-DB68-47F8-8070-1B938C1B114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specific form of acceptance required, must comply or acceptanc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ilateral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ptance is performa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:  rewar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is not usually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DF0EECC-975F-4BA5-A108-9FACE48A02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t-box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to rule that acceptance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use of mail is a reasonable form of acceptance, acceptance is effective when and whe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applies to telegrams and possibly cou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es not apply to facsimile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0573DF7-B23E-480A-8291-9E1312B167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change of benefit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money, services, goods, 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promises (gratuitous promises) are not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reasonable, but benefit must b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090294A-321E-487A-8CBF-650FD3277C5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ossible, legal, and of som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for services –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must pay a reasonable amount for services requested and r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sideration has already been given, it cannot support a new contract (i.e. “past consideration is no consideration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312B4E6-CE9C-4848-B7DF-BEAEA2AE80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an change contract obligations, but all parties must receive “new”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atuitous promises not binding on promisor with some 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less in full satisfaction of debt is binding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romissory Estoppel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reliance on gratuitous promise may be used as a defenc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th a seal, no need to establish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D04BBE0-3395-4EEB-92EC-E79C0AD3C8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never was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are free from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arty has the right to escape the contract; contract valid until this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814D3CD-EBC8-49BA-9253-1EE8ACFF4C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721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17ADEEB-CAD5-4178-8C80-4579A58112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ants – voidabl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one under the age of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act is binding on the adult, but not on the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s in many provinces for necessities and beneficial contracts of service (but not in B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infant ratifies contract (in writing or by implication) after becoming an adult, he/she is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ants liable for their own t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EEA0BAA-C060-417B-8158-7D03AA8D88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anity or intoxication - To escape a contract for non-necess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show you were so insane/intoxicated that you did not understand transaction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party to contract knew or should have known of the insanity/intoxi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repudiate contract as soon as possible when sanity/sobriety is reg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81E429F-4423-4B71-B226-E07EA4E104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tory bodies may have limit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Crown corporations, municipalitie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governments and represen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plomatic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s Indians under the curren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ia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city is limited to some extent to protect from explo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0E13868-AEB0-42F0-9320-9B7336D3727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ssential elements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process by which consensus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valid offer and effective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rinciple of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requirements of capacity and leg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lement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a written docu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45B7386-20A4-4D01-9B15-D7300422C0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s that have unlawful objective or illegal consideration ar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may be set out in sta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ntracts must be intended to cover a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tates agreements that unduly limit competition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F616149-68D6-4E75-B39F-207478BBDC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ve covenants permissible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blic interest is not ha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s usually won’t enforce restrictive covenant against employees if it prevents earning a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B51CDC1-77B4-4FEE-88B1-BD1EDCE20B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must intend legal consequences to result from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uld a reasonable person have thought he/she was entering into binding cont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0B59C90-19BC-4531-A499-ADC2F20055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estic/So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r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ly reasonable pers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3D8BEE0-956C-4CBE-B22D-80A6D55288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ways good practice to put contract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bal contract often just as binding i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ment of writing varies by jurisdiction (i.e., set by 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jurisdictions have electronic documents 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EDC364E-37A5-4BEF-BB0E-7EAF3AEEF8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certain transactions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purchase of land, long-term leases, assuming responsibility for debt, contracts over one year, marriage contracts, sales of goods of certai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writing is required but absent, contract is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performance may satisfy requirement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consistent with existence of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87CC09D-19B5-437E-B1AF-6386AA8A305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– a voluntary exchange of promises or commitments that are enforceable in our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law mostly developed in 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C835189-2257-4660-8B65-250F24F1AA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ss of offer and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ome to a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rms must be clear and un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66294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7392A82-6D0A-4566-A2DC-D5873C8530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tative promise that contains the terms of the anticipated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itations to treat are not o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advertisements, catalogues,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must contain all importan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, property, an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erms may also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A38AEE1-A73C-45A1-9864-D06B8D4274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verbal or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ommunicated at the time of entering the contract, not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on receipt, sign, or any way that it is brought to the attention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9670682-DE14-46DF-A799-FFA8602A6D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specif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ath or insanity of offe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ocation (if communic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nter-offer (acts as re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tion agreement – keeps offer open for a specifi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E5B2117-1FA1-4C17-9F30-CC26130476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Form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mbiguities interpreted in favour of the party forced to accept th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ontroll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65892F3-BA0E-4A13-A2EB-B36BCA33829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eptance – commitment by offeree to be bound by terms of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plete and un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dition of any terms = counter-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effective when and where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0:54Z</dcterms:created>
  <dc:creator>Client Name</dc:creator>
  <dc:description/>
  <dc:language>en-US</dc:language>
  <cp:lastModifiedBy>User</cp:lastModifiedBy>
  <dcterms:modified xsi:type="dcterms:W3CDTF">2012-04-24T16:08:42Z</dcterms:modified>
  <cp:revision>91</cp:revision>
  <dc:subject/>
  <dc:title>Slide 1</dc:title>
</cp:coreProperties>
</file>